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B7C52A-BE0E-40B5-B089-D29E783A0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0400" cy="35989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3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38FF5A-25BD-40FF-80E9-D06CD673E80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BCE010-A782-4336-915B-A4E43DF2F0D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220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F68D1F-274D-473D-912D-8AD9E7A428E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220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B38016-B2D6-4F16-95B2-2A1912FBF97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2200" cy="35989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4DDEB8-E2E1-40D9-A662-3DC0ACF84D9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0400" cy="35989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46FA4A-AF2D-4429-A6B4-0B5F18A7A24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39A45C-C5CE-4738-8A04-6B22B8C9687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95D6F0-AD9C-4342-B18B-66AE8995E00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D27DD-7C74-44F1-8B0F-D6EB558C3AB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9515D7-B9AA-4740-A4EC-7E2804BDFB4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B359F-35CF-4374-AFC1-33AC59C66F0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2F633-0117-4846-902C-B3EFB94C42C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66017C-7F4D-4EB6-8660-2235FE7FA5E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356A92-0420-463C-A21D-DCF6E55B30D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82B753-AA05-44FA-8276-A60363AA38E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7BB69D-7797-4DDA-99C1-B4C6EABADA6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6431D9-0A0E-48CF-9710-27C763E2D48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8BBBED-4A76-4BC4-AEDF-67B26F44710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657EC0-6516-481C-A1B6-3BA2BFCE02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572BD5-3F0B-4E45-B7EE-5B739A3DC11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2E3AA1-6B87-4363-A3D3-947E3C26D15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2C1B01-989C-4727-A950-A8CBAE3A777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8C87C7-ACE5-45D0-AC8F-85F98C32100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93EBCA-1EA1-46B4-A7FE-BF9057B4E31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391D51-0722-42FB-94FE-C8AD677FCD3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32C809-BB03-4B86-9776-12FB5712CDE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DEC8CD-C7B0-465E-A31E-CF6E3420422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2200" cy="35989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BEACA9-D705-43D1-A81D-317F58DF5D5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369876-0751-4D7D-8845-5FC964D3A4F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46CB45-39D2-4D43-BE3F-BC39209C9D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32DA4E-EE0B-4057-9CE7-C62C91A033A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7C2E4D-AC61-47BC-A85D-D1666BCEEE0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BE4E60-AD07-4896-AD11-40CCB9F216B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4FD892-854B-49B2-BECF-DAFE67E29EF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3341E8-AEBD-445C-AB3D-8D145AAB773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D34F71-8388-42AD-8E7F-1CD957093A6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8434FE-B78A-4C73-A752-A6522B330D6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0400" cy="3598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3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Slide Number Placeholder 4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E37843-9BE7-4D10-AF83-A33E8BC5F57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C86AA9-932B-4596-BB6E-C4C5E38F599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DA8B8E-939E-44D9-9C0F-D6582E96214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6A3809-9358-406B-BEED-9AAED3B1DDD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819FCB-4D11-43C7-AFFD-95E0E569992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8D5C9A-D185-4B81-8ED5-5ADCEA90F79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D321E9-39C6-4A2D-81ED-3E466D5ED01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234886-43B9-45F8-8F47-CF123554913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2200" cy="35989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040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B9E06D-A5CD-4035-8D0A-A29BBE4ED67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022400" y="720720"/>
            <a:ext cx="5270400" cy="35989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oter Placeholder 3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F67681-ECAE-4C5B-98F9-D6BC59FCE97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521-14AA-40C7-A213-E9C32C20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147-074F-4915-A1FB-C629BA4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E26-DFF9-4DDE-A7EC-70D04FA4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D43-E3C4-4890-A265-F7496475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95A-A685-4E23-8AC4-76C035A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0766-9253-4F07-9620-F2A8BB0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FCC4-19C3-4B0C-9C05-28D5E06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2DE1-9EC5-4D72-9EBC-285300BF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4116-F7A7-4625-B958-73B8CD69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94C6-D218-4060-933D-B1B596F9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9AE-2164-4AF3-8A65-F7275A1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0B0-9B6B-4132-83AB-BAA5D5A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ED5-82D0-4E3F-AC36-3E94C45D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AF2-D7B2-4D57-B809-AABC6AC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06DC-73D0-4227-9301-147063C4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B98B-B441-4CEE-A504-ABA20EF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D79B-A414-4DA9-8F87-B65E80F0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86B-2876-423C-BA17-8F5EDD5F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05E-C3D2-4C46-B456-C8709E1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99E-3540-482A-8FA8-0E3B63A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D4C-18F6-4B63-89D8-056F6FBB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A3B-4A85-47E2-A1EA-8F89557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C77-9DC0-4E7D-8547-B45E815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C33-0ED8-4558-AA96-FC6636E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0CF-D8D5-4CCB-9049-21397264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64C-6759-49AB-9360-B55546A87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robotstxt.org/wc/norobot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7749" t="17425" r="25297" b="7340"/>
          <a:stretch/>
        </p:blipFill>
        <p:spPr>
          <a:xfrm>
            <a:off x="0" y="0"/>
            <a:ext cx="5500800" cy="678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17455" t="19907" r="25592" b="7236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16717" t="19113" r="24854" b="8816"/>
          <a:stretch/>
        </p:blipFill>
        <p:spPr>
          <a:xfrm>
            <a:off x="0" y="0"/>
            <a:ext cx="59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rcRect l="17455" t="19113" r="24854" b="8026"/>
          <a:stretch/>
        </p:blipFill>
        <p:spPr>
          <a:xfrm>
            <a:off x="332892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Rectangle 4"/>
          <p:cNvGrpSpPr/>
          <p:nvPr/>
        </p:nvGrpSpPr>
        <p:grpSpPr>
          <a:xfrm>
            <a:off x="-146160" y="981000"/>
            <a:ext cx="7534440" cy="2311560"/>
            <a:chOff x="-146160" y="981000"/>
            <a:chExt cx="7534440" cy="2311560"/>
          </a:xfrm>
        </p:grpSpPr>
        <p:pic>
          <p:nvPicPr>
            <p:cNvPr id="125" name="Rectangle 4" descr=""/>
            <p:cNvPicPr/>
            <p:nvPr/>
          </p:nvPicPr>
          <p:blipFill>
            <a:blip r:embed="rId2"/>
            <a:stretch/>
          </p:blipFill>
          <p:spPr>
            <a:xfrm>
              <a:off x="-146160" y="981000"/>
              <a:ext cx="753444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1125360"/>
              <a:ext cx="723600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7" name="Rectangle 5"/>
          <p:cNvGrpSpPr/>
          <p:nvPr/>
        </p:nvGrpSpPr>
        <p:grpSpPr>
          <a:xfrm>
            <a:off x="7236000" y="981000"/>
            <a:ext cx="2060280" cy="6029280"/>
            <a:chOff x="7236000" y="981000"/>
            <a:chExt cx="2060280" cy="6029280"/>
          </a:xfrm>
        </p:grpSpPr>
        <p:pic>
          <p:nvPicPr>
            <p:cNvPr id="128" name="Rectangle 5" descr=""/>
            <p:cNvPicPr/>
            <p:nvPr/>
          </p:nvPicPr>
          <p:blipFill>
            <a:blip r:embed="rId3"/>
            <a:stretch/>
          </p:blipFill>
          <p:spPr>
            <a:xfrm>
              <a:off x="7236000" y="981000"/>
              <a:ext cx="206028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80360" y="1125360"/>
              <a:ext cx="1763640" cy="57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0" name="TextBox 5"/>
          <p:cNvSpPr/>
          <p:nvPr/>
        </p:nvSpPr>
        <p:spPr>
          <a:xfrm>
            <a:off x="5433480" y="4643280"/>
            <a:ext cx="7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-$</a:t>
            </a:r>
            <a:endParaRPr b="1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Rectangle 4"/>
          <p:cNvGrpSpPr/>
          <p:nvPr/>
        </p:nvGrpSpPr>
        <p:grpSpPr>
          <a:xfrm>
            <a:off x="-146160" y="3054240"/>
            <a:ext cx="7534440" cy="3956040"/>
            <a:chOff x="-146160" y="3054240"/>
            <a:chExt cx="7534440" cy="3956040"/>
          </a:xfrm>
        </p:grpSpPr>
        <p:pic>
          <p:nvPicPr>
            <p:cNvPr id="132" name="Rectangle 4" descr=""/>
            <p:cNvPicPr/>
            <p:nvPr/>
          </p:nvPicPr>
          <p:blipFill>
            <a:blip r:embed="rId4"/>
            <a:stretch/>
          </p:blipFill>
          <p:spPr>
            <a:xfrm>
              <a:off x="-146160" y="3054240"/>
              <a:ext cx="75344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3198960"/>
              <a:ext cx="7236000" cy="36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Box 7"/>
          <p:cNvSpPr/>
          <p:nvPr/>
        </p:nvSpPr>
        <p:spPr>
          <a:xfrm>
            <a:off x="5625720" y="1643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000"/>
                </a:solidFill>
                <a:latin typeface="Comic Sans MS"/>
              </a:rPr>
              <a:t>+$</a:t>
            </a:r>
            <a:endParaRPr b="1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new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0000"/>
                </a:solidFill>
                <a:latin typeface="Comic Sans MS"/>
              </a:rPr>
              <a:t>Sponsored search</a:t>
            </a:r>
            <a:r>
              <a:rPr b="0" lang="it-IT" sz="3400" spc="-1" strike="noStrike">
                <a:solidFill>
                  <a:srgbClr val="000000"/>
                </a:solidFill>
                <a:latin typeface="Lucida Sans"/>
              </a:rPr>
              <a:t>: Ads driven by search keywords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</a:rPr>
              <a:t>(and user-profile issuing the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0000"/>
                </a:solidFill>
                <a:latin typeface="Comic Sans MS"/>
              </a:rPr>
              <a:t>Context match</a:t>
            </a:r>
            <a:r>
              <a:rPr b="0" lang="it-IT" sz="3400" spc="-1" strike="noStrike">
                <a:solidFill>
                  <a:srgbClr val="000000"/>
                </a:solidFill>
                <a:latin typeface="Lucida Sans"/>
              </a:rPr>
              <a:t>: Ads driven by the content of a web page 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</a:rPr>
              <a:t>(and user-profile reaching that pag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408720" y="3429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AdWords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6408720" y="59245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AdSense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Oval 6"/>
          <p:cNvSpPr/>
          <p:nvPr/>
        </p:nvSpPr>
        <p:spPr>
          <a:xfrm>
            <a:off x="6877080" y="4797360"/>
            <a:ext cx="1942920" cy="2060640"/>
          </a:xfrm>
          <a:prstGeom prst="ellipse">
            <a:avLst/>
          </a:prstGeom>
          <a:noFill/>
          <a:ln w="133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he structure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4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5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5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1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5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AutoShape 16"/>
            <p:cNvCxnSpPr>
              <a:endCxn id="15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61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162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1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66" name="AutoShape 23"/>
            <p:cNvCxnSpPr>
              <a:stCxn id="156" idx="3"/>
              <a:endCxn id="162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7" name="Group 24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168" name="AutoShape 25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AutoShape 26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1" name="AutoShape 28"/>
            <p:cNvCxnSpPr>
              <a:stCxn id="168" idx="1"/>
              <a:endCxn id="169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172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75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77" name="AutoShape 34"/>
          <p:cNvCxnSpPr>
            <a:stCxn id="168" idx="2"/>
            <a:endCxn id="178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179" name="Group 35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180" name="AutoShape 36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Text Box 37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1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82" name="AutoShape 38"/>
          <p:cNvCxnSpPr>
            <a:stCxn id="168" idx="2"/>
            <a:endCxn id="175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183" name="Group 39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184" name="Line 40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85" name="Picture 41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87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8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78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1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0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3" name="Group 50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194" name="Group 51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195" name="AutoShape 52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1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1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Line 53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97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198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9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0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1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2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0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1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14" name="Group 71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215" name="AutoShape 72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1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AutoShape 73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7" name="AutoShape 74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Lucida Sans"/>
              </a:rPr>
              <a:t>The Web Graph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 (Google 7/08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hundreds of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3300"/>
                </a:solidFill>
                <a:latin typeface="Comic Sans MS"/>
              </a:rPr>
              <a:t>Retrieve docs that are “relevant” for the user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Doc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ile word or pdf, web page, email, blog, e-book,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Query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aradigm “bag of words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336600"/>
                </a:solidFill>
                <a:latin typeface="Tahoma"/>
              </a:rPr>
              <a:t>Relevant ?!?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oal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4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238400" y="465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Oval 3"/>
          <p:cNvSpPr/>
          <p:nvPr/>
        </p:nvSpPr>
        <p:spPr>
          <a:xfrm rot="18223800">
            <a:off x="2311200" y="4031640"/>
            <a:ext cx="2041560" cy="3019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2863800" y="441180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4202280" y="6039000"/>
            <a:ext cx="31896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608200" y="5973840"/>
            <a:ext cx="319320" cy="3236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4776840" y="4541760"/>
            <a:ext cx="31752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1" name="AutoShape 8"/>
          <p:cNvCxnSpPr>
            <a:stCxn id="227" idx="6"/>
            <a:endCxn id="230" idx="2"/>
          </p:cNvCxnSpPr>
          <p:nvPr/>
        </p:nvCxnSpPr>
        <p:spPr>
          <a:xfrm>
            <a:off x="3192480" y="4573440"/>
            <a:ext cx="15739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2" name="AutoShape 9"/>
          <p:cNvCxnSpPr>
            <a:stCxn id="227" idx="5"/>
            <a:endCxn id="228" idx="2"/>
          </p:cNvCxnSpPr>
          <p:nvPr/>
        </p:nvCxnSpPr>
        <p:spPr>
          <a:xfrm>
            <a:off x="3134880" y="4700160"/>
            <a:ext cx="105804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3" name="AutoShape 10"/>
          <p:cNvCxnSpPr>
            <a:stCxn id="229" idx="7"/>
            <a:endCxn id="227" idx="4"/>
          </p:cNvCxnSpPr>
          <p:nvPr/>
        </p:nvCxnSpPr>
        <p:spPr>
          <a:xfrm flipV="1">
            <a:off x="2881440" y="474768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4" name="AutoShape 11"/>
          <p:cNvCxnSpPr>
            <a:stCxn id="228" idx="2"/>
            <a:endCxn id="229" idx="6"/>
          </p:cNvCxnSpPr>
          <p:nvPr/>
        </p:nvCxnSpPr>
        <p:spPr>
          <a:xfrm flipH="1" flipV="1">
            <a:off x="2937960" y="6135480"/>
            <a:ext cx="1254960" cy="6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35" name="AutoShape 12"/>
          <p:cNvCxnSpPr>
            <a:stCxn id="227" idx="3"/>
            <a:endCxn id="229" idx="0"/>
          </p:cNvCxnSpPr>
          <p:nvPr/>
        </p:nvCxnSpPr>
        <p:spPr>
          <a:xfrm flipH="1">
            <a:off x="2768400" y="4700520"/>
            <a:ext cx="141840" cy="1262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6" name="Oval 13"/>
          <p:cNvSpPr/>
          <p:nvPr/>
        </p:nvSpPr>
        <p:spPr>
          <a:xfrm>
            <a:off x="5796000" y="506268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2162160" y="4932360"/>
            <a:ext cx="509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632040" y="51274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C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4141080" y="38908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CC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Oval 17"/>
          <p:cNvSpPr/>
          <p:nvPr/>
        </p:nvSpPr>
        <p:spPr>
          <a:xfrm rot="2604000">
            <a:off x="2555640" y="3511440"/>
            <a:ext cx="2786040" cy="3529080"/>
          </a:xfrm>
          <a:prstGeom prst="ellipse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defini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77724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eak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W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n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un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rongly connected compone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SC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339840" indent="-2253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t of nodes such that from any node can go to any node via a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direct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at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Oval 20"/>
          <p:cNvSpPr/>
          <p:nvPr/>
        </p:nvSpPr>
        <p:spPr>
          <a:xfrm>
            <a:off x="6629400" y="4452840"/>
            <a:ext cx="318960" cy="32544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6067440" y="4760640"/>
            <a:ext cx="62388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n observing the Web graph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We do not know which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percentage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it we know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only way to discover the graph structure of the web as hypertext is via large scale crawl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arning: the picture might be 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distorted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b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ze limitation of the craw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ing ru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turbations of the "natural" process of birth  and death of nodes and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hy is it interest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4604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st artifact ever conceived by the hu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its structure of the Web fo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 strategi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 dete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covering communitie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assification/orga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dict the evolution of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681120" indent="-227160">
              <a:lnSpc>
                <a:spcPct val="15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ciological understan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ny other large graphs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ernet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Rou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communication 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sine”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undirected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static web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f-idf distanc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tween p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Query-Log grap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bipartite, 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queries and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q,u) where u is a result for q, and has been clicked by some user who issue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ocial grap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undirected, unweighte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 =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= (x,y)  if x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now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y (facebook, address book, email,.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4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 most of the hyperlinks point to other URLs on the same host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ges close in lexicographic order tend to share many outgo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971640" y="1844640"/>
          <a:ext cx="576396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76396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tens of billions of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Lucida Sans"/>
              </a:rPr>
              <a:t>Crawling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4h, 7days “walking” over a Grap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 the Web graph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direct graph G = (N, 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 changes (insert, delete) &gt;&gt; 50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wTie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“Best”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? How much to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parallelize the proc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86280" y="1701720"/>
            <a:ext cx="8415000" cy="5067360"/>
            <a:chOff x="386280" y="1701720"/>
            <a:chExt cx="8415000" cy="5067360"/>
          </a:xfrm>
        </p:grpSpPr>
        <p:sp>
          <p:nvSpPr>
            <p:cNvPr id="286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Text Box 5"/>
            <p:cNvSpPr/>
            <p:nvPr/>
          </p:nvSpPr>
          <p:spPr>
            <a:xfrm>
              <a:off x="386280" y="560088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Web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88" name="Group 6"/>
          <p:cNvGrpSpPr/>
          <p:nvPr/>
        </p:nvGrpSpPr>
        <p:grpSpPr>
          <a:xfrm>
            <a:off x="1189800" y="1905120"/>
            <a:ext cx="2531160" cy="4419360"/>
            <a:chOff x="1189800" y="1905120"/>
            <a:chExt cx="2531160" cy="4419360"/>
          </a:xfrm>
        </p:grpSpPr>
        <p:sp>
          <p:nvSpPr>
            <p:cNvPr id="289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1189800" y="3086280"/>
              <a:ext cx="188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s crawled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and parsed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91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293" name="Group 15"/>
            <p:cNvGrpSpPr/>
            <p:nvPr/>
          </p:nvGrpSpPr>
          <p:grpSpPr>
            <a:xfrm>
              <a:off x="3363120" y="1828800"/>
              <a:ext cx="2491560" cy="4800600"/>
              <a:chOff x="3363120" y="1828800"/>
              <a:chExt cx="2491560" cy="4800600"/>
            </a:xfrm>
          </p:grpSpPr>
          <p:sp>
            <p:nvSpPr>
              <p:cNvPr id="294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Text Box 17"/>
              <p:cNvSpPr/>
              <p:nvPr/>
            </p:nvSpPr>
            <p:spPr>
              <a:xfrm>
                <a:off x="3363120" y="4610160"/>
                <a:ext cx="180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Lucida Sans"/>
                  </a:rPr>
                  <a:t>URLs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Lucida Sans"/>
                  </a:rPr>
                  <a:t>frontier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96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0" name="Text Box 22"/>
          <p:cNvSpPr/>
          <p:nvPr/>
        </p:nvSpPr>
        <p:spPr>
          <a:xfrm>
            <a:off x="6113880" y="37735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nseen Web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1288800" y="4641840"/>
            <a:ext cx="1322640" cy="99540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ed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g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22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1189800" y="1905120"/>
            <a:ext cx="2531160" cy="4419360"/>
            <a:chOff x="1189800" y="1905120"/>
            <a:chExt cx="2531160" cy="4419360"/>
          </a:xfrm>
        </p:grpSpPr>
        <p:sp>
          <p:nvSpPr>
            <p:cNvPr id="308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1189800" y="3086280"/>
              <a:ext cx="188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s crawled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and parsed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310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312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5961240" y="377352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nseen Web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19"/>
          <p:cNvSpPr/>
          <p:nvPr/>
        </p:nvSpPr>
        <p:spPr>
          <a:xfrm>
            <a:off x="1289520" y="4641840"/>
            <a:ext cx="1320120" cy="99540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ed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g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2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3624120" y="567864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RL frontier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6" name="AutoShape 37"/>
          <p:cNvCxnSpPr>
            <a:endCxn id="325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337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Text Box 39"/>
          <p:cNvSpPr/>
          <p:nvPr/>
        </p:nvSpPr>
        <p:spPr>
          <a:xfrm>
            <a:off x="309600" y="624852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rawling thread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36"/>
          <p:cNvSpPr/>
          <p:nvPr/>
        </p:nvSpPr>
        <p:spPr>
          <a:xfrm>
            <a:off x="7665120" y="-33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1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obots.t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tocol for giving spiders (“robots”) limited access to a website, originally from 1994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Lucida Sans"/>
                <a:ea typeface="ＭＳ Ｐゴシック"/>
                <a:hlinkClick r:id="rId1"/>
              </a:rPr>
              <a:t>www.robotstxt.org/wc/norobots.htm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Website announces its request on what can(not) be crawled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a URL, create a file of restri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RL/robots.tx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65120" y="-33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obots.txt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 robot should visit any URL starting with "/yoursite/temp/", except the robot called “searchengine"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ser-agent: *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sallow: /yoursite/temp/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ser-agent: search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sallow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7665120" y="-33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cessing steps in 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ick a URL from the fronti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Fetch the document at the UR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rse the UR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tract links from it to other docs (URL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each extracted UR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nsure it passes certain URL filter te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heck if it is already in the frontier (duplicate URL elimin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heck if URL has content already see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Duplicate content elimin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5987880" y="3573360"/>
            <a:ext cx="3048120" cy="5032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, only crawl .edu, obey robots.txt, etc.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5699880" y="1786320"/>
            <a:ext cx="2449440" cy="399240"/>
          </a:xfrm>
          <a:prstGeom prst="leftArrowCallout">
            <a:avLst>
              <a:gd name="adj1" fmla="val 25002"/>
              <a:gd name="adj2" fmla="val 25000"/>
              <a:gd name="adj3" fmla="val 102254"/>
              <a:gd name="adj4" fmla="val 666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hich one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7665120" y="-33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asic crawl archit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84360" y="1754280"/>
            <a:ext cx="914400" cy="372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WW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98760" y="1752480"/>
            <a:ext cx="1373040" cy="1219320"/>
            <a:chOff x="1598760" y="1752480"/>
            <a:chExt cx="1373040" cy="1219320"/>
          </a:xfrm>
        </p:grpSpPr>
        <p:sp>
          <p:nvSpPr>
            <p:cNvPr id="354" name="Rectangle 6"/>
            <p:cNvSpPr/>
            <p:nvPr/>
          </p:nvSpPr>
          <p:spPr>
            <a:xfrm>
              <a:off x="2057400" y="1752480"/>
              <a:ext cx="91440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DN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14"/>
            <p:cNvSpPr/>
            <p:nvPr/>
          </p:nvSpPr>
          <p:spPr>
            <a:xfrm flipH="1">
              <a:off x="1598760" y="21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251460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7" name="Group 33"/>
          <p:cNvGrpSpPr/>
          <p:nvPr/>
        </p:nvGrpSpPr>
        <p:grpSpPr>
          <a:xfrm>
            <a:off x="2971800" y="2133720"/>
            <a:ext cx="1371600" cy="3352680"/>
            <a:chOff x="2971800" y="2133720"/>
            <a:chExt cx="1371600" cy="3352680"/>
          </a:xfrm>
        </p:grpSpPr>
        <p:sp>
          <p:nvSpPr>
            <p:cNvPr id="358" name="Rectangle 7"/>
            <p:cNvSpPr/>
            <p:nvPr/>
          </p:nvSpPr>
          <p:spPr>
            <a:xfrm>
              <a:off x="3429000" y="2133720"/>
              <a:ext cx="914400" cy="3352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Parse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Line 17"/>
            <p:cNvSpPr/>
            <p:nvPr/>
          </p:nvSpPr>
          <p:spPr>
            <a:xfrm>
              <a:off x="2971800" y="3810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0" name="Group 34"/>
          <p:cNvGrpSpPr/>
          <p:nvPr/>
        </p:nvGrpSpPr>
        <p:grpSpPr>
          <a:xfrm>
            <a:off x="4343400" y="1981080"/>
            <a:ext cx="1371600" cy="3500640"/>
            <a:chOff x="4343400" y="1981080"/>
            <a:chExt cx="1371600" cy="3500640"/>
          </a:xfrm>
        </p:grpSpPr>
        <p:sp>
          <p:nvSpPr>
            <p:cNvPr id="361" name="Rectangle 8"/>
            <p:cNvSpPr/>
            <p:nvPr/>
          </p:nvSpPr>
          <p:spPr>
            <a:xfrm>
              <a:off x="4800600" y="3505320"/>
              <a:ext cx="914400" cy="197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Content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seen?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AutoShape 11"/>
            <p:cNvSpPr/>
            <p:nvPr/>
          </p:nvSpPr>
          <p:spPr>
            <a:xfrm>
              <a:off x="4800600" y="1981080"/>
              <a:ext cx="914400" cy="99072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Doc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FP’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18"/>
            <p:cNvSpPr/>
            <p:nvPr/>
          </p:nvSpPr>
          <p:spPr>
            <a:xfrm>
              <a:off x="434340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21"/>
            <p:cNvSpPr/>
            <p:nvPr/>
          </p:nvSpPr>
          <p:spPr>
            <a:xfrm>
              <a:off x="5257800" y="2971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5" name="Group 36"/>
          <p:cNvGrpSpPr/>
          <p:nvPr/>
        </p:nvGrpSpPr>
        <p:grpSpPr>
          <a:xfrm>
            <a:off x="7010280" y="1905120"/>
            <a:ext cx="1295640" cy="3581280"/>
            <a:chOff x="7010280" y="1905120"/>
            <a:chExt cx="1295640" cy="3581280"/>
          </a:xfrm>
        </p:grpSpPr>
        <p:sp>
          <p:nvSpPr>
            <p:cNvPr id="366" name="Rectangle 10"/>
            <p:cNvSpPr/>
            <p:nvPr/>
          </p:nvSpPr>
          <p:spPr>
            <a:xfrm>
              <a:off x="7391160" y="3510000"/>
              <a:ext cx="914760" cy="197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Dup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elim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AutoShape 12"/>
            <p:cNvSpPr/>
            <p:nvPr/>
          </p:nvSpPr>
          <p:spPr>
            <a:xfrm>
              <a:off x="7391160" y="1905120"/>
              <a:ext cx="914760" cy="106668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set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20"/>
            <p:cNvSpPr/>
            <p:nvPr/>
          </p:nvSpPr>
          <p:spPr>
            <a:xfrm>
              <a:off x="7010280" y="3810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7848720" y="2971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0" name="Group 31"/>
          <p:cNvGrpSpPr/>
          <p:nvPr/>
        </p:nvGrpSpPr>
        <p:grpSpPr>
          <a:xfrm>
            <a:off x="2590560" y="5486040"/>
            <a:ext cx="5258160" cy="991080"/>
            <a:chOff x="2590560" y="5486040"/>
            <a:chExt cx="5258160" cy="991080"/>
          </a:xfrm>
        </p:grpSpPr>
        <p:sp>
          <p:nvSpPr>
            <p:cNvPr id="371" name="Rectangle 13"/>
            <p:cNvSpPr/>
            <p:nvPr/>
          </p:nvSpPr>
          <p:spPr>
            <a:xfrm>
              <a:off x="3200400" y="5791320"/>
              <a:ext cx="396252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 Frontier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Line 23"/>
            <p:cNvSpPr/>
            <p:nvPr/>
          </p:nvSpPr>
          <p:spPr>
            <a:xfrm flipH="1">
              <a:off x="716256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7848720" y="5486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Line 26"/>
            <p:cNvSpPr/>
            <p:nvPr/>
          </p:nvSpPr>
          <p:spPr>
            <a:xfrm flipH="1">
              <a:off x="2590560" y="6172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V="1">
              <a:off x="2590920" y="5486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6" name="Group 35"/>
          <p:cNvGrpSpPr/>
          <p:nvPr/>
        </p:nvGrpSpPr>
        <p:grpSpPr>
          <a:xfrm>
            <a:off x="5715000" y="1981080"/>
            <a:ext cx="1295280" cy="3500640"/>
            <a:chOff x="5715000" y="1981080"/>
            <a:chExt cx="1295280" cy="3500640"/>
          </a:xfrm>
        </p:grpSpPr>
        <p:sp>
          <p:nvSpPr>
            <p:cNvPr id="377" name="Rectangle 9"/>
            <p:cNvSpPr/>
            <p:nvPr/>
          </p:nvSpPr>
          <p:spPr>
            <a:xfrm>
              <a:off x="6095880" y="3505320"/>
              <a:ext cx="914400" cy="197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URL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filter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19"/>
            <p:cNvSpPr/>
            <p:nvPr/>
          </p:nvSpPr>
          <p:spPr>
            <a:xfrm>
              <a:off x="57150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AutoShape 28"/>
            <p:cNvSpPr/>
            <p:nvPr/>
          </p:nvSpPr>
          <p:spPr>
            <a:xfrm>
              <a:off x="6095880" y="1981080"/>
              <a:ext cx="914400" cy="99072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robot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6553080" y="2971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1" name="Group 30"/>
          <p:cNvGrpSpPr/>
          <p:nvPr/>
        </p:nvGrpSpPr>
        <p:grpSpPr>
          <a:xfrm>
            <a:off x="1600200" y="2971800"/>
            <a:ext cx="1371600" cy="2509920"/>
            <a:chOff x="1600200" y="2971800"/>
            <a:chExt cx="1371600" cy="2509920"/>
          </a:xfrm>
        </p:grpSpPr>
        <p:sp>
          <p:nvSpPr>
            <p:cNvPr id="382" name="Rectangle 5"/>
            <p:cNvSpPr/>
            <p:nvPr/>
          </p:nvSpPr>
          <p:spPr>
            <a:xfrm>
              <a:off x="2057400" y="2971800"/>
              <a:ext cx="914400" cy="250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Fetch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>
              <a:off x="160020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 flipH="1">
              <a:off x="160020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5" name="TextBox 36"/>
          <p:cNvSpPr/>
          <p:nvPr/>
        </p:nvSpPr>
        <p:spPr>
          <a:xfrm>
            <a:off x="7665120" y="-331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ge sel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“good”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1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F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3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“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FS-order discovers the highest quality pages during the early stages of the crawl”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328 millions of URL in the testb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0" name="Picture 4" descr="topNpr-small"/>
          <p:cNvPicPr/>
          <p:nvPr/>
        </p:nvPicPr>
        <p:blipFill>
          <a:blip r:embed="rId1"/>
          <a:stretch/>
        </p:blipFill>
        <p:spPr>
          <a:xfrm>
            <a:off x="1042920" y="3284640"/>
            <a:ext cx="7315200" cy="2960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7236000" y="63086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[Najork 01]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2195640" y="364500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1979640" y="4508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file has been parsed or 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fter 20 mil pages, we have “seen” over 200 milli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URL is at least 100 bytes on 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Overall we have about 20Gb of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ptions:  compress URLs in main memory, or use dis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Mercator,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ks are given to Central coordinato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wo probl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download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“relocation”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6500880" y="1557360"/>
            <a:ext cx="2643120" cy="2160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of downloaders.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Dowloader x fetches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1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vers mapped to unit circl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What if a downloader goes down?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What if a new downloader appears?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10"/>
          <p:cNvGrpSpPr/>
          <p:nvPr/>
        </p:nvGrpSpPr>
        <p:grpSpPr>
          <a:xfrm>
            <a:off x="4143240" y="3857760"/>
            <a:ext cx="4954320" cy="2285640"/>
            <a:chOff x="4143240" y="3857760"/>
            <a:chExt cx="4954320" cy="2285640"/>
          </a:xfrm>
        </p:grpSpPr>
        <p:sp>
          <p:nvSpPr>
            <p:cNvPr id="406" name="Text Box 8"/>
            <p:cNvSpPr/>
            <p:nvPr/>
          </p:nvSpPr>
          <p:spPr>
            <a:xfrm>
              <a:off x="4472280" y="3875040"/>
              <a:ext cx="434736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1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ne old to the new, only.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cost/S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 any server gets  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≤  (I/S) log S items w.h.p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1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1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>
              <a:off x="4143240" y="3857760"/>
              <a:ext cx="4954320" cy="2285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s: 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www.nutch.or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entrix, used by Archive.or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archive-crawler.sourceforge.net/index.ht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nsisten Hash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mazon’s Dyna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nectivity Serv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upport for fast queries on the web graph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ich URLs point to a given UR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ich URLs does a given URL point t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Stores mappings in memory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URL to outlinks, URL to inlin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urrently the be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ebgraph – set of algorithms and a java implementation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undamental goal – maintain node adjacency lists in memory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this, compressing the adjacency lists is the critical compon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jacency lis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set of neighbors of a nod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ssume each URL represented by an integer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4 billion pag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32 bits per nod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64 bits per hyperlin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djaceny list compres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operties exploited in compression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imilarity (between lists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ocality (many links from a page go to “lexic-nearby” pages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gap encodings in sorted lis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istribution of gap valu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Rounded Rectangle 4"/>
          <p:cNvSpPr/>
          <p:nvPr/>
        </p:nvSpPr>
        <p:spPr>
          <a:xfrm>
            <a:off x="5364000" y="5805360"/>
            <a:ext cx="3529080" cy="792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3 bits/link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rcRect l="1480" t="15046" r="1625" b="1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rcRect l="1182" t="15154" r="2661" b="16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 idea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lexicographically ordered list of all URLs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alchem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biolo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biology/pl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biology/plant/copyrigh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biology/plant/peop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Lucida Sans"/>
                <a:ea typeface="ＭＳ Ｐゴシック"/>
              </a:rPr>
              <a:t>www.stanford.edu/chemist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py lis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ach of these URLs has an adjacency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 idea: due to templates, the adjacency list of a node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simila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o one of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preceding URLs in the lexicographic 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xpress adjacency list in terms of one of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consider these adjacency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1, 2, 4, 8, 16, 32, 6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1, 4, 9, 16, 25, 36, 49, 6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1, 2, 3, 5, 8, 13, 21, 34, 55, 89, 14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1, 4, 8, 16, 25, 36, 49, 6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88920" y="5624640"/>
            <a:ext cx="7401960" cy="1259640"/>
            <a:chOff x="88920" y="5624640"/>
            <a:chExt cx="7401960" cy="1259640"/>
          </a:xfrm>
        </p:grpSpPr>
        <p:sp>
          <p:nvSpPr>
            <p:cNvPr id="429" name="Rounded Rectangle 8"/>
            <p:cNvSpPr/>
            <p:nvPr/>
          </p:nvSpPr>
          <p:spPr>
            <a:xfrm>
              <a:off x="3405960" y="6442920"/>
              <a:ext cx="4084920" cy="441360"/>
            </a:xfrm>
            <a:prstGeom prst="roundRect">
              <a:avLst>
                <a:gd name="adj" fmla="val 16667"/>
              </a:avLst>
            </a:prstGeom>
            <a:solidFill>
              <a:srgbClr val="00e4a8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Encode as (-2), 11011111, add 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88920" y="5624640"/>
              <a:ext cx="3331080" cy="837720"/>
            </a:xfrm>
            <a:custGeom>
              <a:avLst/>
              <a:gdLst>
                <a:gd name="textAreaLeft" fmla="*/ 0 w 3331080"/>
                <a:gd name="textAreaRight" fmla="*/ 3331440 w 333108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1816" h="816">
                  <a:moveTo>
                    <a:pt x="1816" y="816"/>
                  </a:moveTo>
                  <a:cubicBezTo>
                    <a:pt x="1092" y="788"/>
                    <a:pt x="368" y="760"/>
                    <a:pt x="184" y="624"/>
                  </a:cubicBezTo>
                  <a:cubicBezTo>
                    <a:pt x="0" y="488"/>
                    <a:pt x="356" y="244"/>
                    <a:pt x="712" y="0"/>
                  </a:cubicBezTo>
                </a:path>
              </a:pathLst>
            </a:custGeom>
            <a:noFill/>
            <a:ln w="38160">
              <a:solidFill>
                <a:srgbClr val="26267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1" name="AutoShape 6"/>
          <p:cNvSpPr/>
          <p:nvPr/>
        </p:nvSpPr>
        <p:spPr>
          <a:xfrm>
            <a:off x="7620120" y="1746720"/>
            <a:ext cx="1523880" cy="430560"/>
          </a:xfrm>
          <a:prstGeom prst="wedgeRoundRectCallout">
            <a:avLst>
              <a:gd name="adj1" fmla="val -72648"/>
              <a:gd name="adj2" fmla="val 17974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hy 7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tra nodes and binary array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veral trick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e RLE over the binary array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e succinct encoding for the intervals created by extra-nod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e special interger-codes for the remaining integer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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de: good for integers from a power law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in advantag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1690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djacency queries can be answered very efficient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fetch out-neighbors, trace back the chain of prototyp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is chain is typically short in practice (since similarity is mostly intra-host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n also explicitly limit the length of the chain during encod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Easy to implement one-pass algorith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20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trict dup-detection = exact match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t as comm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any cases of near duplicat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Last modified date is the only difference between two page cop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uplicate/Near-Duplicate Dete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Duplication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Exact match  can be detected with fingerpri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Near-Duplication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ＭＳ Ｐゴシック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pproximate mat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ute syntactic similarity with an edit-distance meas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Use similarity threshold to detect near-duplic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 Similarity &gt; 80% =&gt; Documents are “near duplicates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uting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hingles (Word N-Gram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 rose is a rose is a ros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→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a_rose_is_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rose_is_a_ro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is_a_rose_i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a_rose_is_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ilarity Measure between two doc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of shingles + Set intersec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609480" y="2286000"/>
            <a:ext cx="7696440" cy="1600200"/>
            <a:chOff x="609480" y="2286000"/>
            <a:chExt cx="7696440" cy="1600200"/>
          </a:xfrm>
        </p:grpSpPr>
        <p:sp>
          <p:nvSpPr>
            <p:cNvPr id="449" name="Oval 3"/>
            <p:cNvSpPr/>
            <p:nvPr/>
          </p:nvSpPr>
          <p:spPr>
            <a:xfrm>
              <a:off x="6400800" y="2286000"/>
              <a:ext cx="1905120" cy="1600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set of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gerprint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50" name="Group 4"/>
            <p:cNvGrpSpPr/>
            <p:nvPr/>
          </p:nvGrpSpPr>
          <p:grpSpPr>
            <a:xfrm>
              <a:off x="609480" y="2286000"/>
              <a:ext cx="5715000" cy="1600200"/>
              <a:chOff x="609480" y="2286000"/>
              <a:chExt cx="5715000" cy="1600200"/>
            </a:xfrm>
          </p:grpSpPr>
          <p:sp>
            <p:nvSpPr>
              <p:cNvPr id="451" name="AutoShape 5"/>
              <p:cNvSpPr/>
              <p:nvPr/>
            </p:nvSpPr>
            <p:spPr>
              <a:xfrm>
                <a:off x="609480" y="2514600"/>
                <a:ext cx="914400" cy="1143000"/>
              </a:xfrm>
              <a:prstGeom prst="foldedCorner">
                <a:avLst>
                  <a:gd name="adj" fmla="val 125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AutoShape 6"/>
              <p:cNvSpPr/>
              <p:nvPr/>
            </p:nvSpPr>
            <p:spPr>
              <a:xfrm>
                <a:off x="1752480" y="2743200"/>
                <a:ext cx="1524240" cy="685800"/>
              </a:xfrm>
              <a:prstGeom prst="rightArrow">
                <a:avLst>
                  <a:gd name="adj1" fmla="val 50000"/>
                  <a:gd name="adj2" fmla="val 5556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ingling</a:t>
                </a:r>
                <a:endParaRPr b="1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Oval 7"/>
              <p:cNvSpPr/>
              <p:nvPr/>
            </p:nvSpPr>
            <p:spPr>
              <a:xfrm>
                <a:off x="3352680" y="2286000"/>
                <a:ext cx="1676520" cy="16002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iset 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ngles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4" name="AutoShape 8"/>
              <p:cNvSpPr/>
              <p:nvPr/>
            </p:nvSpPr>
            <p:spPr>
              <a:xfrm>
                <a:off x="4800600" y="2743200"/>
                <a:ext cx="1523880" cy="685800"/>
              </a:xfrm>
              <a:prstGeom prst="rightArrow">
                <a:avLst>
                  <a:gd name="adj1" fmla="val 50000"/>
                  <a:gd name="adj2" fmla="val 5555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gerprint</a:t>
                </a:r>
                <a:endParaRPr b="1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u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ets of 64-bit fingerpri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395280" y="4221000"/>
            <a:ext cx="835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icient shingle management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Fingerprints: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arp-Rabin fingerprint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64-bit fingerprints 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[collision] &lt;&lt;  1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ilarity of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7596360" y="1844640"/>
            <a:ext cx="1054080" cy="11415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2843280" y="1852560"/>
            <a:ext cx="3384360" cy="1219320"/>
            <a:chOff x="2843280" y="1852560"/>
            <a:chExt cx="3384360" cy="1219320"/>
          </a:xfrm>
        </p:grpSpPr>
        <p:sp>
          <p:nvSpPr>
            <p:cNvPr id="460" name="Rectangle 5"/>
            <p:cNvSpPr/>
            <p:nvPr/>
          </p:nvSpPr>
          <p:spPr>
            <a:xfrm>
              <a:off x="4322880" y="2005200"/>
              <a:ext cx="19047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461" name="Group 6"/>
            <p:cNvGrpSpPr/>
            <p:nvPr/>
          </p:nvGrpSpPr>
          <p:grpSpPr>
            <a:xfrm>
              <a:off x="2843280" y="1852560"/>
              <a:ext cx="1944720" cy="1067040"/>
              <a:chOff x="2843280" y="1852560"/>
              <a:chExt cx="1944720" cy="1067040"/>
            </a:xfrm>
          </p:grpSpPr>
          <p:sp>
            <p:nvSpPr>
              <p:cNvPr id="462" name="Rectangle 7"/>
              <p:cNvSpPr/>
              <p:nvPr/>
            </p:nvSpPr>
            <p:spPr>
              <a:xfrm>
                <a:off x="2843280" y="18525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3" name="Rectangle 8"/>
              <p:cNvSpPr/>
              <p:nvPr/>
            </p:nvSpPr>
            <p:spPr>
              <a:xfrm>
                <a:off x="4330800" y="2005200"/>
                <a:ext cx="457200" cy="914400"/>
              </a:xfrm>
              <a:prstGeom prst="rect">
                <a:avLst/>
              </a:prstGeom>
              <a:solidFill>
                <a:srgbClr val="8e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64" name="AutoShape 9"/>
          <p:cNvSpPr/>
          <p:nvPr/>
        </p:nvSpPr>
        <p:spPr>
          <a:xfrm>
            <a:off x="468360" y="1916280"/>
            <a:ext cx="934920" cy="106344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1547640" y="221148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6440400" y="21477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24000" y="3435480"/>
            <a:ext cx="84582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ccard 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imilarity o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re sets of integers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&amp; B are near-duplicates i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m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lose to 1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2532240" y="4148280"/>
                <a:ext cx="3335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ma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Multiplicities of q-gram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– could retain or ign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ade-off efficiency with 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Shingle Size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q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 [4 … 10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Short shingl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crease similarity of unrelated docume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ith 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q=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sim(S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,S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) =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is permutation of 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ed larger </a:t>
            </a: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o sensitize to permutation chang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ng shingles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mall random changes have larger impac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Similarity Meas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milarity is non-transitive, non-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dissimilarity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 1-</a:t>
            </a:r>
            <a:r>
              <a:rPr b="1" lang="en-US" sz="1800" spc="-1" strike="noStrike">
                <a:solidFill>
                  <a:srgbClr val="cc3300"/>
                </a:solidFill>
                <a:latin typeface="Lucida Sans"/>
              </a:rPr>
              <a:t>sim(S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Lucida Sans"/>
              </a:rPr>
              <a:t>,S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1" lang="en-US" sz="1800" spc="-1" strike="noStrike">
                <a:solidFill>
                  <a:srgbClr val="cc33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a 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[Ukkonen 92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– relat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q-gram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amp;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edit-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rcRect l="0" t="11627" r="1590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= “a rose is a rose is a rose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= “a rose is a flower which is a rose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Preserving multiplicit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51560" indent="-21024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S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= {a, a, a, is, is, rose, rose, rose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051560" indent="-21024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Lucida Sans"/>
              </a:rPr>
              <a:t>S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= {a, a, a, is, is, rose, rose, flower, which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3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Disregarding multiplicity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q=3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= 0.428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fficiency: Sket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reate a “sketch vector” (of size ~200) for each docum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s that share </a:t>
            </a:r>
            <a:r>
              <a:rPr b="0" lang="en-US" sz="2800" spc="-1" strike="noStrike">
                <a:solidFill>
                  <a:srgbClr val="a40508"/>
                </a:solidFill>
                <a:latin typeface="Lucida Sans"/>
                <a:ea typeface="ＭＳ Ｐゴシック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980000"/>
                </a:solidFill>
                <a:latin typeface="Lucida Sans"/>
                <a:ea typeface="ＭＳ Ｐゴシック"/>
              </a:rPr>
              <a:t>t</a:t>
            </a:r>
            <a:r>
              <a:rPr b="0" lang="en-US" sz="2800" spc="-1" strike="noStrike">
                <a:solidFill>
                  <a:srgbClr val="980000"/>
                </a:solidFill>
                <a:latin typeface="Lucida San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say 80%) of elemes in the skecthes are </a:t>
            </a:r>
            <a:r>
              <a:rPr b="0" lang="en-US" sz="2800" spc="-1" strike="noStrike">
                <a:solidFill>
                  <a:srgbClr val="980000"/>
                </a:solidFill>
                <a:latin typeface="Lucida Sans"/>
                <a:ea typeface="ＭＳ Ｐゴシック"/>
              </a:rPr>
              <a:t>near duplic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doc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sketc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[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] is as follow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t f map all shingles in the universe to 0..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(e.g., f = fingerprinting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be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dom permut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 0..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ick MIN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f(s))}  over all shingl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uting Sketch[i] for Doc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143000" y="1819440"/>
            <a:ext cx="3276720" cy="3438360"/>
            <a:chOff x="1143000" y="1819440"/>
            <a:chExt cx="3276720" cy="3438360"/>
          </a:xfrm>
        </p:grpSpPr>
        <p:sp>
          <p:nvSpPr>
            <p:cNvPr id="478" name="Line 4"/>
            <p:cNvSpPr/>
            <p:nvPr/>
          </p:nvSpPr>
          <p:spPr>
            <a:xfrm>
              <a:off x="1143000" y="2971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9" name="Oval 5"/>
            <p:cNvSpPr/>
            <p:nvPr/>
          </p:nvSpPr>
          <p:spPr>
            <a:xfrm>
              <a:off x="3159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Oval 6"/>
            <p:cNvSpPr/>
            <p:nvPr/>
          </p:nvSpPr>
          <p:spPr>
            <a:xfrm>
              <a:off x="3537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1" name="Oval 7"/>
            <p:cNvSpPr/>
            <p:nvPr/>
          </p:nvSpPr>
          <p:spPr>
            <a:xfrm>
              <a:off x="2403360" y="28386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2" name="Oval 8"/>
            <p:cNvSpPr/>
            <p:nvPr/>
          </p:nvSpPr>
          <p:spPr>
            <a:xfrm>
              <a:off x="189864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>
              <a:off x="1143000" y="3562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4" name="Oval 10"/>
            <p:cNvSpPr/>
            <p:nvPr/>
          </p:nvSpPr>
          <p:spPr>
            <a:xfrm>
              <a:off x="3159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5" name="Oval 11"/>
            <p:cNvSpPr/>
            <p:nvPr/>
          </p:nvSpPr>
          <p:spPr>
            <a:xfrm>
              <a:off x="3537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Oval 12"/>
            <p:cNvSpPr/>
            <p:nvPr/>
          </p:nvSpPr>
          <p:spPr>
            <a:xfrm>
              <a:off x="2403360" y="34290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7" name="Oval 13"/>
            <p:cNvSpPr/>
            <p:nvPr/>
          </p:nvSpPr>
          <p:spPr>
            <a:xfrm>
              <a:off x="189864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8" name="Freeform 14"/>
            <p:cNvSpPr/>
            <p:nvPr/>
          </p:nvSpPr>
          <p:spPr>
            <a:xfrm>
              <a:off x="1979640" y="3562200"/>
              <a:ext cx="863640" cy="2667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Freeform 15"/>
            <p:cNvSpPr/>
            <p:nvPr/>
          </p:nvSpPr>
          <p:spPr>
            <a:xfrm flipH="1">
              <a:off x="1692360" y="3562200"/>
              <a:ext cx="1466640" cy="400320"/>
            </a:xfrm>
            <a:custGeom>
              <a:avLst/>
              <a:gdLst>
                <a:gd name="textAreaLeft" fmla="*/ 360 w 1466640"/>
                <a:gd name="textAreaRight" fmla="*/ 1467360 w 14666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Oval 16"/>
            <p:cNvSpPr/>
            <p:nvPr/>
          </p:nvSpPr>
          <p:spPr>
            <a:xfrm>
              <a:off x="164772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1" name="Oval 17"/>
            <p:cNvSpPr/>
            <p:nvPr/>
          </p:nvSpPr>
          <p:spPr>
            <a:xfrm>
              <a:off x="2781360" y="3429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2" name="Freeform 18"/>
            <p:cNvSpPr/>
            <p:nvPr/>
          </p:nvSpPr>
          <p:spPr>
            <a:xfrm>
              <a:off x="2484360" y="3562200"/>
              <a:ext cx="1430280" cy="266760"/>
            </a:xfrm>
            <a:custGeom>
              <a:avLst/>
              <a:gdLst>
                <a:gd name="textAreaLeft" fmla="*/ 0 w 1430280"/>
                <a:gd name="textAreaRight" fmla="*/ 1430640 w 1430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3" name="Oval 19"/>
            <p:cNvSpPr/>
            <p:nvPr/>
          </p:nvSpPr>
          <p:spPr>
            <a:xfrm>
              <a:off x="3914640" y="34290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4" name="Freeform 20"/>
            <p:cNvSpPr/>
            <p:nvPr/>
          </p:nvSpPr>
          <p:spPr>
            <a:xfrm flipH="1">
              <a:off x="2195640" y="3562200"/>
              <a:ext cx="1341360" cy="400320"/>
            </a:xfrm>
            <a:custGeom>
              <a:avLst/>
              <a:gdLst>
                <a:gd name="textAreaLeft" fmla="*/ 360 w 1341360"/>
                <a:gd name="textAreaRight" fmla="*/ 1342080 w 134136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5" name="Oval 21"/>
            <p:cNvSpPr/>
            <p:nvPr/>
          </p:nvSpPr>
          <p:spPr>
            <a:xfrm>
              <a:off x="215100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>
              <a:off x="1143000" y="4191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7" name="Oval 23"/>
            <p:cNvSpPr/>
            <p:nvPr/>
          </p:nvSpPr>
          <p:spPr>
            <a:xfrm>
              <a:off x="164772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8" name="Oval 24"/>
            <p:cNvSpPr/>
            <p:nvPr/>
          </p:nvSpPr>
          <p:spPr>
            <a:xfrm>
              <a:off x="2781360" y="405756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9" name="Oval 25"/>
            <p:cNvSpPr/>
            <p:nvPr/>
          </p:nvSpPr>
          <p:spPr>
            <a:xfrm>
              <a:off x="3914640" y="40575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215100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>
              <a:off x="1143000" y="21337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>
              <a:off x="1143000" y="47242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Oval 29"/>
            <p:cNvSpPr/>
            <p:nvPr/>
          </p:nvSpPr>
          <p:spPr>
            <a:xfrm>
              <a:off x="1647720" y="45910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Text Box 30"/>
            <p:cNvSpPr/>
            <p:nvPr/>
          </p:nvSpPr>
          <p:spPr>
            <a:xfrm>
              <a:off x="1812960" y="1819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5" name="Text Box 31"/>
          <p:cNvSpPr/>
          <p:nvPr/>
        </p:nvSpPr>
        <p:spPr>
          <a:xfrm>
            <a:off x="4355280" y="2787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Text Box 32"/>
          <p:cNvSpPr/>
          <p:nvPr/>
        </p:nvSpPr>
        <p:spPr>
          <a:xfrm>
            <a:off x="4355280" y="3321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Text Box 33"/>
          <p:cNvSpPr/>
          <p:nvPr/>
        </p:nvSpPr>
        <p:spPr>
          <a:xfrm>
            <a:off x="4355280" y="3930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Text Box 34"/>
          <p:cNvSpPr/>
          <p:nvPr/>
        </p:nvSpPr>
        <p:spPr>
          <a:xfrm>
            <a:off x="4355280" y="4464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Text Box 35"/>
          <p:cNvSpPr/>
          <p:nvPr/>
        </p:nvSpPr>
        <p:spPr>
          <a:xfrm>
            <a:off x="4945680" y="2847960"/>
            <a:ext cx="415836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 with 64-bi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hingles)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mute on the number line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ck the min value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est if Doc1.Sketch[i] = Doc2.Sketch[i]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611280" y="1773360"/>
            <a:ext cx="3276360" cy="3438360"/>
            <a:chOff x="611280" y="1773360"/>
            <a:chExt cx="3276360" cy="3438360"/>
          </a:xfrm>
        </p:grpSpPr>
        <p:sp>
          <p:nvSpPr>
            <p:cNvPr id="513" name="Line 4"/>
            <p:cNvSpPr/>
            <p:nvPr/>
          </p:nvSpPr>
          <p:spPr>
            <a:xfrm>
              <a:off x="611280" y="29257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4" name="Oval 5"/>
            <p:cNvSpPr/>
            <p:nvPr/>
          </p:nvSpPr>
          <p:spPr>
            <a:xfrm>
              <a:off x="2626920" y="27925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5" name="Oval 6"/>
            <p:cNvSpPr/>
            <p:nvPr/>
          </p:nvSpPr>
          <p:spPr>
            <a:xfrm>
              <a:off x="3004920" y="27925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Oval 7"/>
            <p:cNvSpPr/>
            <p:nvPr/>
          </p:nvSpPr>
          <p:spPr>
            <a:xfrm>
              <a:off x="1871280" y="279252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7" name="Oval 8"/>
            <p:cNvSpPr/>
            <p:nvPr/>
          </p:nvSpPr>
          <p:spPr>
            <a:xfrm>
              <a:off x="1366560" y="27925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8" name="Line 9"/>
            <p:cNvSpPr/>
            <p:nvPr/>
          </p:nvSpPr>
          <p:spPr>
            <a:xfrm>
              <a:off x="611280" y="35161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Oval 10"/>
            <p:cNvSpPr/>
            <p:nvPr/>
          </p:nvSpPr>
          <p:spPr>
            <a:xfrm>
              <a:off x="2626920" y="33829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Oval 11"/>
            <p:cNvSpPr/>
            <p:nvPr/>
          </p:nvSpPr>
          <p:spPr>
            <a:xfrm>
              <a:off x="3004920" y="33829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Oval 12"/>
            <p:cNvSpPr/>
            <p:nvPr/>
          </p:nvSpPr>
          <p:spPr>
            <a:xfrm>
              <a:off x="1871280" y="338292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2" name="Oval 13"/>
            <p:cNvSpPr/>
            <p:nvPr/>
          </p:nvSpPr>
          <p:spPr>
            <a:xfrm>
              <a:off x="1366560" y="3382920"/>
              <a:ext cx="12672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3" name="Freeform 14"/>
            <p:cNvSpPr/>
            <p:nvPr/>
          </p:nvSpPr>
          <p:spPr>
            <a:xfrm>
              <a:off x="1366560" y="3516120"/>
              <a:ext cx="1007640" cy="26676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4" name="Freeform 15"/>
            <p:cNvSpPr/>
            <p:nvPr/>
          </p:nvSpPr>
          <p:spPr>
            <a:xfrm flipH="1">
              <a:off x="1114920" y="3516120"/>
              <a:ext cx="1510920" cy="400320"/>
            </a:xfrm>
            <a:custGeom>
              <a:avLst/>
              <a:gdLst>
                <a:gd name="textAreaLeft" fmla="*/ -360 w 1510920"/>
                <a:gd name="textAreaRight" fmla="*/ 1510920 w 15109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Oval 16"/>
            <p:cNvSpPr/>
            <p:nvPr/>
          </p:nvSpPr>
          <p:spPr>
            <a:xfrm>
              <a:off x="1115640" y="338292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6" name="Oval 17"/>
            <p:cNvSpPr/>
            <p:nvPr/>
          </p:nvSpPr>
          <p:spPr>
            <a:xfrm>
              <a:off x="2249280" y="3382920"/>
              <a:ext cx="12492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7" name="Freeform 18"/>
            <p:cNvSpPr/>
            <p:nvPr/>
          </p:nvSpPr>
          <p:spPr>
            <a:xfrm>
              <a:off x="1871280" y="3516120"/>
              <a:ext cx="1510920" cy="266760"/>
            </a:xfrm>
            <a:custGeom>
              <a:avLst/>
              <a:gdLst>
                <a:gd name="textAreaLeft" fmla="*/ 0 w 1510920"/>
                <a:gd name="textAreaRight" fmla="*/ 1511280 w 15109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8" name="Oval 19"/>
            <p:cNvSpPr/>
            <p:nvPr/>
          </p:nvSpPr>
          <p:spPr>
            <a:xfrm>
              <a:off x="3382560" y="3382920"/>
              <a:ext cx="12672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9" name="Freeform 20"/>
            <p:cNvSpPr/>
            <p:nvPr/>
          </p:nvSpPr>
          <p:spPr>
            <a:xfrm flipH="1">
              <a:off x="1618200" y="3516120"/>
              <a:ext cx="1385640" cy="400320"/>
            </a:xfrm>
            <a:custGeom>
              <a:avLst/>
              <a:gdLst>
                <a:gd name="textAreaLeft" fmla="*/ -360 w 1385640"/>
                <a:gd name="textAreaRight" fmla="*/ 1385640 w 13856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0" name="Oval 21"/>
            <p:cNvSpPr/>
            <p:nvPr/>
          </p:nvSpPr>
          <p:spPr>
            <a:xfrm>
              <a:off x="1618920" y="338292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Line 22"/>
            <p:cNvSpPr/>
            <p:nvPr/>
          </p:nvSpPr>
          <p:spPr>
            <a:xfrm>
              <a:off x="611280" y="414504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Oval 23"/>
            <p:cNvSpPr/>
            <p:nvPr/>
          </p:nvSpPr>
          <p:spPr>
            <a:xfrm>
              <a:off x="1115640" y="401148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3" name="Oval 24"/>
            <p:cNvSpPr/>
            <p:nvPr/>
          </p:nvSpPr>
          <p:spPr>
            <a:xfrm>
              <a:off x="2249280" y="4011480"/>
              <a:ext cx="12492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4" name="Oval 25"/>
            <p:cNvSpPr/>
            <p:nvPr/>
          </p:nvSpPr>
          <p:spPr>
            <a:xfrm>
              <a:off x="3382560" y="4011480"/>
              <a:ext cx="12672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Oval 26"/>
            <p:cNvSpPr/>
            <p:nvPr/>
          </p:nvSpPr>
          <p:spPr>
            <a:xfrm>
              <a:off x="1618920" y="401148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611280" y="208764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11280" y="46782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8" name="Oval 29"/>
            <p:cNvSpPr/>
            <p:nvPr/>
          </p:nvSpPr>
          <p:spPr>
            <a:xfrm>
              <a:off x="1115640" y="4545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Text Box 30"/>
            <p:cNvSpPr/>
            <p:nvPr/>
          </p:nvSpPr>
          <p:spPr>
            <a:xfrm>
              <a:off x="1280880" y="17733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0" name="Group 31"/>
          <p:cNvGrpSpPr/>
          <p:nvPr/>
        </p:nvGrpSpPr>
        <p:grpSpPr>
          <a:xfrm>
            <a:off x="5105520" y="3352680"/>
            <a:ext cx="3276360" cy="542520"/>
            <a:chOff x="5105520" y="3352680"/>
            <a:chExt cx="3276360" cy="542520"/>
          </a:xfrm>
        </p:grpSpPr>
        <p:sp>
          <p:nvSpPr>
            <p:cNvPr id="541" name="Line 32"/>
            <p:cNvSpPr/>
            <p:nvPr/>
          </p:nvSpPr>
          <p:spPr>
            <a:xfrm>
              <a:off x="5105520" y="34956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42" name="Group 33"/>
            <p:cNvGrpSpPr/>
            <p:nvPr/>
          </p:nvGrpSpPr>
          <p:grpSpPr>
            <a:xfrm>
              <a:off x="5943240" y="3352680"/>
              <a:ext cx="1981080" cy="542520"/>
              <a:chOff x="5943240" y="3352680"/>
              <a:chExt cx="1981080" cy="542520"/>
            </a:xfrm>
          </p:grpSpPr>
          <p:sp>
            <p:nvSpPr>
              <p:cNvPr id="543" name="Oval 34"/>
              <p:cNvSpPr/>
              <p:nvPr/>
            </p:nvSpPr>
            <p:spPr>
              <a:xfrm flipH="1">
                <a:off x="6568560" y="335268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4" name="Oval 35"/>
              <p:cNvSpPr/>
              <p:nvPr/>
            </p:nvSpPr>
            <p:spPr>
              <a:xfrm flipH="1">
                <a:off x="625608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5" name="Oval 36"/>
              <p:cNvSpPr/>
              <p:nvPr/>
            </p:nvSpPr>
            <p:spPr>
              <a:xfrm flipH="1">
                <a:off x="7195320" y="335268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6" name="Oval 37"/>
              <p:cNvSpPr/>
              <p:nvPr/>
            </p:nvSpPr>
            <p:spPr>
              <a:xfrm flipH="1">
                <a:off x="761184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7" name="Freeform 38"/>
              <p:cNvSpPr/>
              <p:nvPr/>
            </p:nvSpPr>
            <p:spPr>
              <a:xfrm flipH="1">
                <a:off x="6882480" y="3488040"/>
                <a:ext cx="834120" cy="271440"/>
              </a:xfrm>
              <a:custGeom>
                <a:avLst/>
                <a:gdLst>
                  <a:gd name="textAreaLeft" fmla="*/ -360 w 834120"/>
                  <a:gd name="textAreaRight" fmla="*/ 834120 w 83412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8" name="Freeform 39"/>
              <p:cNvSpPr/>
              <p:nvPr/>
            </p:nvSpPr>
            <p:spPr>
              <a:xfrm>
                <a:off x="6673680" y="348804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9" name="Oval 40"/>
              <p:cNvSpPr/>
              <p:nvPr/>
            </p:nvSpPr>
            <p:spPr>
              <a:xfrm flipH="1">
                <a:off x="78206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0" name="Oval 41"/>
              <p:cNvSpPr/>
              <p:nvPr/>
            </p:nvSpPr>
            <p:spPr>
              <a:xfrm flipH="1">
                <a:off x="68828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1" name="Freeform 42"/>
              <p:cNvSpPr/>
              <p:nvPr/>
            </p:nvSpPr>
            <p:spPr>
              <a:xfrm flipH="1">
                <a:off x="6048360" y="348804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2" name="Oval 43"/>
              <p:cNvSpPr/>
              <p:nvPr/>
            </p:nvSpPr>
            <p:spPr>
              <a:xfrm flipH="1">
                <a:off x="5943240" y="335268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3" name="Freeform 44"/>
              <p:cNvSpPr/>
              <p:nvPr/>
            </p:nvSpPr>
            <p:spPr>
              <a:xfrm>
                <a:off x="6361200" y="348804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4" name="Oval 45"/>
              <p:cNvSpPr/>
              <p:nvPr/>
            </p:nvSpPr>
            <p:spPr>
              <a:xfrm flipH="1">
                <a:off x="740448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555" name="Line 46"/>
          <p:cNvSpPr/>
          <p:nvPr/>
        </p:nvSpPr>
        <p:spPr>
          <a:xfrm>
            <a:off x="5105520" y="2066760"/>
            <a:ext cx="0" cy="31244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5775480" y="1752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cument 2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Line 48"/>
          <p:cNvSpPr/>
          <p:nvPr/>
        </p:nvSpPr>
        <p:spPr>
          <a:xfrm>
            <a:off x="5105520" y="29624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Oval 49"/>
          <p:cNvSpPr/>
          <p:nvPr/>
        </p:nvSpPr>
        <p:spPr>
          <a:xfrm flipH="1">
            <a:off x="656820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Oval 50"/>
          <p:cNvSpPr/>
          <p:nvPr/>
        </p:nvSpPr>
        <p:spPr>
          <a:xfrm flipH="1">
            <a:off x="625572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Oval 51"/>
          <p:cNvSpPr/>
          <p:nvPr/>
        </p:nvSpPr>
        <p:spPr>
          <a:xfrm flipH="1">
            <a:off x="7195320" y="28195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Oval 52"/>
          <p:cNvSpPr/>
          <p:nvPr/>
        </p:nvSpPr>
        <p:spPr>
          <a:xfrm flipH="1">
            <a:off x="761148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53"/>
          <p:cNvSpPr/>
          <p:nvPr/>
        </p:nvSpPr>
        <p:spPr>
          <a:xfrm>
            <a:off x="5105520" y="4181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Oval 54"/>
          <p:cNvSpPr/>
          <p:nvPr/>
        </p:nvSpPr>
        <p:spPr>
          <a:xfrm flipH="1">
            <a:off x="782172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Oval 55"/>
          <p:cNvSpPr/>
          <p:nvPr/>
        </p:nvSpPr>
        <p:spPr>
          <a:xfrm flipH="1">
            <a:off x="688356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Oval 56"/>
          <p:cNvSpPr/>
          <p:nvPr/>
        </p:nvSpPr>
        <p:spPr>
          <a:xfrm flipH="1">
            <a:off x="594288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Oval 57"/>
          <p:cNvSpPr/>
          <p:nvPr/>
        </p:nvSpPr>
        <p:spPr>
          <a:xfrm flipH="1">
            <a:off x="740340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58"/>
          <p:cNvSpPr/>
          <p:nvPr/>
        </p:nvSpPr>
        <p:spPr>
          <a:xfrm>
            <a:off x="5105520" y="4714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Oval 59"/>
          <p:cNvSpPr/>
          <p:nvPr/>
        </p:nvSpPr>
        <p:spPr>
          <a:xfrm flipH="1">
            <a:off x="5942880" y="45720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AutoShape 60"/>
          <p:cNvSpPr/>
          <p:nvPr/>
        </p:nvSpPr>
        <p:spPr>
          <a:xfrm rot="5400000">
            <a:off x="3336840" y="2650680"/>
            <a:ext cx="457200" cy="47563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756320"/>
              <a:gd name="textAreaBottom" fmla="*/ 3708720 h 475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59"/>
                  <a:pt x="21600" y="9517"/>
                </a:cubicBezTo>
                <a:lnTo>
                  <a:pt x="21600" y="12083"/>
                </a:lnTo>
                <a:cubicBezTo>
                  <a:pt x="21600" y="16842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Text Box 65"/>
          <p:cNvSpPr/>
          <p:nvPr/>
        </p:nvSpPr>
        <p:spPr>
          <a:xfrm>
            <a:off x="8317440" y="2743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Text Box 66"/>
          <p:cNvSpPr/>
          <p:nvPr/>
        </p:nvSpPr>
        <p:spPr>
          <a:xfrm>
            <a:off x="8317440" y="3276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Text Box 67"/>
          <p:cNvSpPr/>
          <p:nvPr/>
        </p:nvSpPr>
        <p:spPr>
          <a:xfrm>
            <a:off x="8317440" y="3886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Text Box 68"/>
          <p:cNvSpPr/>
          <p:nvPr/>
        </p:nvSpPr>
        <p:spPr>
          <a:xfrm>
            <a:off x="8317440" y="4419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Text Box 69"/>
          <p:cNvSpPr/>
          <p:nvPr/>
        </p:nvSpPr>
        <p:spPr>
          <a:xfrm>
            <a:off x="2367000" y="53006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Rectangle 70"/>
          <p:cNvSpPr/>
          <p:nvPr/>
        </p:nvSpPr>
        <p:spPr>
          <a:xfrm>
            <a:off x="423720" y="5943600"/>
            <a:ext cx="8471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for</a:t>
            </a:r>
            <a:r>
              <a:rPr b="0" lang="en-US" sz="2800" spc="-1" strike="noStrike">
                <a:solidFill>
                  <a:srgbClr val="e21702"/>
                </a:solidFill>
                <a:latin typeface="Tahoma"/>
              </a:rPr>
              <a:t> 2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andom permutations: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</a:t>
            </a:r>
            <a:r>
              <a:rPr b="0" lang="en-US" sz="3600" spc="-1" strike="noStrike">
                <a:solidFill>
                  <a:srgbClr val="e21702"/>
                </a:solidFill>
                <a:latin typeface="Tahoma"/>
              </a:rPr>
              <a:t>, </a:t>
            </a:r>
            <a:r>
              <a:rPr b="0" lang="en-US" sz="36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</a:t>
            </a:r>
            <a:r>
              <a:rPr b="0" lang="en-US" sz="3600" spc="-1" strike="noStrike">
                <a:solidFill>
                  <a:srgbClr val="e21702"/>
                </a:solidFill>
                <a:latin typeface="Tahoma"/>
              </a:rPr>
              <a:t>,… </a:t>
            </a:r>
            <a:r>
              <a:rPr b="0" lang="en-US" sz="36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e21702"/>
                </a:solidFill>
                <a:latin typeface="Tahoma"/>
              </a:rPr>
              <a:t>200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1296360" y="4343400"/>
            <a:ext cx="1477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MIN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(f (A) 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TextBox 73"/>
          <p:cNvSpPr/>
          <p:nvPr/>
        </p:nvSpPr>
        <p:spPr>
          <a:xfrm>
            <a:off x="4037040" y="1700280"/>
            <a:ext cx="9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sam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  <a:ea typeface="Arial"/>
              </a:rPr>
              <a:t>(f(*)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3930480" y="1700280"/>
            <a:ext cx="107964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71"/>
          <p:cNvSpPr/>
          <p:nvPr/>
        </p:nvSpPr>
        <p:spPr>
          <a:xfrm>
            <a:off x="6111720" y="4365720"/>
            <a:ext cx="1473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MIN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(f (B) 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tice that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676520" y="1600200"/>
            <a:ext cx="5839560" cy="2666520"/>
            <a:chOff x="1676520" y="1600200"/>
            <a:chExt cx="5839560" cy="2666520"/>
          </a:xfrm>
        </p:grpSpPr>
        <p:grpSp>
          <p:nvGrpSpPr>
            <p:cNvPr id="583" name="Group 4"/>
            <p:cNvGrpSpPr/>
            <p:nvPr/>
          </p:nvGrpSpPr>
          <p:grpSpPr>
            <a:xfrm>
              <a:off x="1676520" y="1650960"/>
              <a:ext cx="2432880" cy="2615760"/>
              <a:chOff x="1676520" y="1650960"/>
              <a:chExt cx="2432880" cy="2615760"/>
            </a:xfrm>
          </p:grpSpPr>
          <p:sp>
            <p:nvSpPr>
              <p:cNvPr id="584" name="Line 5"/>
              <p:cNvSpPr/>
              <p:nvPr/>
            </p:nvSpPr>
            <p:spPr>
              <a:xfrm>
                <a:off x="1676520" y="252756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5" name="Oval 6"/>
              <p:cNvSpPr/>
              <p:nvPr/>
            </p:nvSpPr>
            <p:spPr>
              <a:xfrm>
                <a:off x="3173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6" name="Oval 7"/>
              <p:cNvSpPr/>
              <p:nvPr/>
            </p:nvSpPr>
            <p:spPr>
              <a:xfrm>
                <a:off x="345384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7" name="Oval 8"/>
              <p:cNvSpPr/>
              <p:nvPr/>
            </p:nvSpPr>
            <p:spPr>
              <a:xfrm>
                <a:off x="2612160" y="242604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8" name="Oval 9"/>
              <p:cNvSpPr/>
              <p:nvPr/>
            </p:nvSpPr>
            <p:spPr>
              <a:xfrm>
                <a:off x="2237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9" name="Line 10"/>
              <p:cNvSpPr/>
              <p:nvPr/>
            </p:nvSpPr>
            <p:spPr>
              <a:xfrm>
                <a:off x="1676520" y="29764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0" name="Oval 11"/>
              <p:cNvSpPr/>
              <p:nvPr/>
            </p:nvSpPr>
            <p:spPr>
              <a:xfrm>
                <a:off x="3173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1" name="Oval 12"/>
              <p:cNvSpPr/>
              <p:nvPr/>
            </p:nvSpPr>
            <p:spPr>
              <a:xfrm>
                <a:off x="345384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2" name="Oval 13"/>
              <p:cNvSpPr/>
              <p:nvPr/>
            </p:nvSpPr>
            <p:spPr>
              <a:xfrm>
                <a:off x="2612160" y="287532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3" name="Oval 14"/>
              <p:cNvSpPr/>
              <p:nvPr/>
            </p:nvSpPr>
            <p:spPr>
              <a:xfrm>
                <a:off x="2237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4" name="Freeform 15"/>
              <p:cNvSpPr/>
              <p:nvPr/>
            </p:nvSpPr>
            <p:spPr>
              <a:xfrm>
                <a:off x="2237400" y="2976480"/>
                <a:ext cx="748440" cy="202680"/>
              </a:xfrm>
              <a:custGeom>
                <a:avLst/>
                <a:gdLst>
                  <a:gd name="textAreaLeft" fmla="*/ 0 w 748440"/>
                  <a:gd name="textAreaRight" fmla="*/ 748800 w 74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5" name="Freeform 16"/>
              <p:cNvSpPr/>
              <p:nvPr/>
            </p:nvSpPr>
            <p:spPr>
              <a:xfrm flipH="1">
                <a:off x="2050200" y="2976480"/>
                <a:ext cx="1122120" cy="304200"/>
              </a:xfrm>
              <a:custGeom>
                <a:avLst/>
                <a:gdLst>
                  <a:gd name="textAreaLeft" fmla="*/ -360 w 1122120"/>
                  <a:gd name="textAreaRight" fmla="*/ 1122120 w 1122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6" name="Oval 17"/>
              <p:cNvSpPr/>
              <p:nvPr/>
            </p:nvSpPr>
            <p:spPr>
              <a:xfrm>
                <a:off x="205092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7" name="Oval 18"/>
              <p:cNvSpPr/>
              <p:nvPr/>
            </p:nvSpPr>
            <p:spPr>
              <a:xfrm>
                <a:off x="2892960" y="2875320"/>
                <a:ext cx="9288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8" name="Freeform 19"/>
              <p:cNvSpPr/>
              <p:nvPr/>
            </p:nvSpPr>
            <p:spPr>
              <a:xfrm>
                <a:off x="2612160" y="2976480"/>
                <a:ext cx="1122120" cy="202680"/>
              </a:xfrm>
              <a:custGeom>
                <a:avLst/>
                <a:gdLst>
                  <a:gd name="textAreaLeft" fmla="*/ 0 w 1122120"/>
                  <a:gd name="textAreaRight" fmla="*/ 1122480 w 1122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9" name="Oval 20"/>
              <p:cNvSpPr/>
              <p:nvPr/>
            </p:nvSpPr>
            <p:spPr>
              <a:xfrm>
                <a:off x="3734280" y="2875320"/>
                <a:ext cx="9432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0" name="Freeform 21"/>
              <p:cNvSpPr/>
              <p:nvPr/>
            </p:nvSpPr>
            <p:spPr>
              <a:xfrm flipH="1">
                <a:off x="2424960" y="2976480"/>
                <a:ext cx="1028880" cy="304200"/>
              </a:xfrm>
              <a:custGeom>
                <a:avLst/>
                <a:gdLst>
                  <a:gd name="textAreaLeft" fmla="*/ 360 w 1028880"/>
                  <a:gd name="textAreaRight" fmla="*/ 1029600 w 1028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1" name="Oval 22"/>
              <p:cNvSpPr/>
              <p:nvPr/>
            </p:nvSpPr>
            <p:spPr>
              <a:xfrm>
                <a:off x="242496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2" name="Line 23"/>
              <p:cNvSpPr/>
              <p:nvPr/>
            </p:nvSpPr>
            <p:spPr>
              <a:xfrm>
                <a:off x="1676520" y="34552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3" name="Oval 24"/>
              <p:cNvSpPr/>
              <p:nvPr/>
            </p:nvSpPr>
            <p:spPr>
              <a:xfrm>
                <a:off x="205092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4" name="Oval 25"/>
              <p:cNvSpPr/>
              <p:nvPr/>
            </p:nvSpPr>
            <p:spPr>
              <a:xfrm>
                <a:off x="2892960" y="3353400"/>
                <a:ext cx="9288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5" name="Oval 26"/>
              <p:cNvSpPr/>
              <p:nvPr/>
            </p:nvSpPr>
            <p:spPr>
              <a:xfrm>
                <a:off x="3734280" y="3353400"/>
                <a:ext cx="9432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6" name="Oval 27"/>
              <p:cNvSpPr/>
              <p:nvPr/>
            </p:nvSpPr>
            <p:spPr>
              <a:xfrm>
                <a:off x="242496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7" name="Line 28"/>
              <p:cNvSpPr/>
              <p:nvPr/>
            </p:nvSpPr>
            <p:spPr>
              <a:xfrm>
                <a:off x="1676520" y="1890000"/>
                <a:ext cx="0" cy="2376720"/>
              </a:xfrm>
              <a:prstGeom prst="line">
                <a:avLst/>
              </a:prstGeom>
              <a:ln cap="rnd" w="93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8" name="Line 29"/>
              <p:cNvSpPr/>
              <p:nvPr/>
            </p:nvSpPr>
            <p:spPr>
              <a:xfrm>
                <a:off x="1676520" y="386064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9" name="Oval 30"/>
              <p:cNvSpPr/>
              <p:nvPr/>
            </p:nvSpPr>
            <p:spPr>
              <a:xfrm>
                <a:off x="2050920" y="375948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0" name="Text Box 31"/>
              <p:cNvSpPr/>
              <p:nvPr/>
            </p:nvSpPr>
            <p:spPr>
              <a:xfrm>
                <a:off x="2212920" y="1650960"/>
                <a:ext cx="17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ocument 1</a:t>
                </a: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11" name="Group 32"/>
            <p:cNvGrpSpPr/>
            <p:nvPr/>
          </p:nvGrpSpPr>
          <p:grpSpPr>
            <a:xfrm>
              <a:off x="4618800" y="2817360"/>
              <a:ext cx="2432520" cy="412560"/>
              <a:chOff x="4618800" y="2817360"/>
              <a:chExt cx="2432520" cy="412560"/>
            </a:xfrm>
          </p:grpSpPr>
          <p:sp>
            <p:nvSpPr>
              <p:cNvPr id="612" name="Line 33"/>
              <p:cNvSpPr/>
              <p:nvPr/>
            </p:nvSpPr>
            <p:spPr>
              <a:xfrm>
                <a:off x="4618800" y="2926080"/>
                <a:ext cx="24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5240880" y="2817360"/>
                <a:ext cx="1470600" cy="412560"/>
                <a:chOff x="5240880" y="2817360"/>
                <a:chExt cx="1470600" cy="412560"/>
              </a:xfrm>
            </p:grpSpPr>
            <p:sp>
              <p:nvSpPr>
                <p:cNvPr id="614" name="Oval 35"/>
                <p:cNvSpPr/>
                <p:nvPr/>
              </p:nvSpPr>
              <p:spPr>
                <a:xfrm flipH="1">
                  <a:off x="57049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15" name="Oval 36"/>
                <p:cNvSpPr/>
                <p:nvPr/>
              </p:nvSpPr>
              <p:spPr>
                <a:xfrm flipH="1">
                  <a:off x="54727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16" name="Oval 37"/>
                <p:cNvSpPr/>
                <p:nvPr/>
              </p:nvSpPr>
              <p:spPr>
                <a:xfrm flipH="1">
                  <a:off x="6170040" y="2817360"/>
                  <a:ext cx="7668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17" name="Oval 38"/>
                <p:cNvSpPr/>
                <p:nvPr/>
              </p:nvSpPr>
              <p:spPr>
                <a:xfrm flipH="1">
                  <a:off x="647928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18" name="Freeform 39"/>
                <p:cNvSpPr/>
                <p:nvPr/>
              </p:nvSpPr>
              <p:spPr>
                <a:xfrm flipH="1">
                  <a:off x="5937840" y="2920320"/>
                  <a:ext cx="619200" cy="206640"/>
                </a:xfrm>
                <a:custGeom>
                  <a:avLst/>
                  <a:gdLst>
                    <a:gd name="textAreaLeft" fmla="*/ 360 w 619200"/>
                    <a:gd name="textAreaRight" fmla="*/ 619920 w 61920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19" name="Freeform 40"/>
                <p:cNvSpPr/>
                <p:nvPr/>
              </p:nvSpPr>
              <p:spPr>
                <a:xfrm>
                  <a:off x="5783040" y="2920320"/>
                  <a:ext cx="928440" cy="309600"/>
                </a:xfrm>
                <a:custGeom>
                  <a:avLst/>
                  <a:gdLst>
                    <a:gd name="textAreaLeft" fmla="*/ 0 w 928440"/>
                    <a:gd name="textAreaRight" fmla="*/ 928800 w 92844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0" name="Oval 41"/>
                <p:cNvSpPr/>
                <p:nvPr/>
              </p:nvSpPr>
              <p:spPr>
                <a:xfrm flipH="1">
                  <a:off x="663408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1" name="Oval 42"/>
                <p:cNvSpPr/>
                <p:nvPr/>
              </p:nvSpPr>
              <p:spPr>
                <a:xfrm flipH="1">
                  <a:off x="593784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2" name="Freeform 43"/>
                <p:cNvSpPr/>
                <p:nvPr/>
              </p:nvSpPr>
              <p:spPr>
                <a:xfrm flipH="1">
                  <a:off x="5318280" y="2920320"/>
                  <a:ext cx="928440" cy="206640"/>
                </a:xfrm>
                <a:custGeom>
                  <a:avLst/>
                  <a:gdLst>
                    <a:gd name="textAreaLeft" fmla="*/ -360 w 928440"/>
                    <a:gd name="textAreaRight" fmla="*/ 928440 w 9284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3" name="Oval 44"/>
                <p:cNvSpPr/>
                <p:nvPr/>
              </p:nvSpPr>
              <p:spPr>
                <a:xfrm flipH="1">
                  <a:off x="5240880" y="2817360"/>
                  <a:ext cx="7776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>
                  <a:off x="5551200" y="2920320"/>
                  <a:ext cx="851400" cy="309600"/>
                </a:xfrm>
                <a:custGeom>
                  <a:avLst/>
                  <a:gdLst>
                    <a:gd name="textAreaLeft" fmla="*/ 0 w 851400"/>
                    <a:gd name="textAreaRight" fmla="*/ 851760 w 85140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 flipH="1">
                  <a:off x="632520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</p:grpSp>
        <p:sp>
          <p:nvSpPr>
            <p:cNvPr id="626" name="Line 47"/>
            <p:cNvSpPr/>
            <p:nvPr/>
          </p:nvSpPr>
          <p:spPr>
            <a:xfrm>
              <a:off x="4618800" y="1839240"/>
              <a:ext cx="0" cy="2377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5154120" y="160020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8" name="Line 49"/>
            <p:cNvSpPr/>
            <p:nvPr/>
          </p:nvSpPr>
          <p:spPr>
            <a:xfrm>
              <a:off x="4618800" y="252072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9" name="Oval 50"/>
            <p:cNvSpPr/>
            <p:nvPr/>
          </p:nvSpPr>
          <p:spPr>
            <a:xfrm flipH="1">
              <a:off x="570528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0" name="Oval 51"/>
            <p:cNvSpPr/>
            <p:nvPr/>
          </p:nvSpPr>
          <p:spPr>
            <a:xfrm flipH="1">
              <a:off x="547344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1" name="Oval 52"/>
            <p:cNvSpPr/>
            <p:nvPr/>
          </p:nvSpPr>
          <p:spPr>
            <a:xfrm flipH="1">
              <a:off x="6170400" y="2412000"/>
              <a:ext cx="7668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2" name="Oval 53"/>
            <p:cNvSpPr/>
            <p:nvPr/>
          </p:nvSpPr>
          <p:spPr>
            <a:xfrm flipH="1">
              <a:off x="648000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Line 54"/>
            <p:cNvSpPr/>
            <p:nvPr/>
          </p:nvSpPr>
          <p:spPr>
            <a:xfrm>
              <a:off x="4618800" y="344808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Oval 55"/>
            <p:cNvSpPr/>
            <p:nvPr/>
          </p:nvSpPr>
          <p:spPr>
            <a:xfrm flipH="1">
              <a:off x="66355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Oval 56"/>
            <p:cNvSpPr/>
            <p:nvPr/>
          </p:nvSpPr>
          <p:spPr>
            <a:xfrm flipH="1">
              <a:off x="59389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Oval 57"/>
            <p:cNvSpPr/>
            <p:nvPr/>
          </p:nvSpPr>
          <p:spPr>
            <a:xfrm flipH="1">
              <a:off x="524088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7" name="Oval 58"/>
            <p:cNvSpPr/>
            <p:nvPr/>
          </p:nvSpPr>
          <p:spPr>
            <a:xfrm flipH="1">
              <a:off x="632556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8" name="Line 59"/>
            <p:cNvSpPr/>
            <p:nvPr/>
          </p:nvSpPr>
          <p:spPr>
            <a:xfrm>
              <a:off x="4618800" y="385380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9" name="Oval 60"/>
            <p:cNvSpPr/>
            <p:nvPr/>
          </p:nvSpPr>
          <p:spPr>
            <a:xfrm flipH="1">
              <a:off x="5240880" y="3745080"/>
              <a:ext cx="77760" cy="10368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AutoShape 61"/>
            <p:cNvSpPr/>
            <p:nvPr/>
          </p:nvSpPr>
          <p:spPr>
            <a:xfrm rot="5400000">
              <a:off x="3511080" y="2536560"/>
              <a:ext cx="347760" cy="3111840"/>
            </a:xfrm>
            <a:custGeom>
              <a:avLst/>
              <a:gdLst>
                <a:gd name="textAreaLeft" fmla="*/ 0 w 347760"/>
                <a:gd name="textAreaRight" fmla="*/ 244080 w 347760"/>
                <a:gd name="textAreaTop" fmla="*/ 777960 h 3111840"/>
                <a:gd name="textAreaBottom" fmla="*/ 2333880 h 31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1" name="Text Box 62"/>
            <p:cNvSpPr/>
            <p:nvPr/>
          </p:nvSpPr>
          <p:spPr>
            <a:xfrm>
              <a:off x="4064760" y="2387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Text Box 63"/>
            <p:cNvSpPr/>
            <p:nvPr/>
          </p:nvSpPr>
          <p:spPr>
            <a:xfrm>
              <a:off x="4064760" y="27932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Text Box 64"/>
            <p:cNvSpPr/>
            <p:nvPr/>
          </p:nvSpPr>
          <p:spPr>
            <a:xfrm>
              <a:off x="4064760" y="32572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Text Box 65"/>
            <p:cNvSpPr/>
            <p:nvPr/>
          </p:nvSpPr>
          <p:spPr>
            <a:xfrm>
              <a:off x="4064760" y="3664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Text Box 66"/>
            <p:cNvSpPr/>
            <p:nvPr/>
          </p:nvSpPr>
          <p:spPr>
            <a:xfrm>
              <a:off x="7006320" y="23536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Text Box 67"/>
            <p:cNvSpPr/>
            <p:nvPr/>
          </p:nvSpPr>
          <p:spPr>
            <a:xfrm>
              <a:off x="7006320" y="27583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Text Box 68"/>
            <p:cNvSpPr/>
            <p:nvPr/>
          </p:nvSpPr>
          <p:spPr>
            <a:xfrm>
              <a:off x="7006320" y="3224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8" name="Text Box 69"/>
            <p:cNvSpPr/>
            <p:nvPr/>
          </p:nvSpPr>
          <p:spPr>
            <a:xfrm>
              <a:off x="7005600" y="3629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49" name="Text Box 70"/>
          <p:cNvSpPr/>
          <p:nvPr/>
        </p:nvSpPr>
        <p:spPr>
          <a:xfrm>
            <a:off x="762120" y="4495680"/>
            <a:ext cx="79246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hey are eq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f the shingle with the MIN value in the union of Doc1 and Doc2 is  doc in their intersection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im: This happens with probabil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of_intersection / Size_of_unio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ll signature pai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 an efficient method for estimating the similarity (Jaccard coefficient) for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one pair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ocument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e have to estimat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imilarities, w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number of web pag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ill slo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e solution: locality sensitive hashing (LSH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other solution: sor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TextBox 4"/>
          <p:cNvSpPr/>
          <p:nvPr/>
        </p:nvSpPr>
        <p:spPr>
          <a:xfrm>
            <a:off x="7654680" y="-3312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659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65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69" name="Object 3"/>
          <p:cNvGraphicFramePr/>
          <p:nvPr/>
        </p:nvGraphicFramePr>
        <p:xfrm>
          <a:off x="1066680" y="1828800"/>
          <a:ext cx="7086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4"/>
          <p:cNvSpPr/>
          <p:nvPr/>
        </p:nvSpPr>
        <p:spPr>
          <a:xfrm>
            <a:off x="6715080" y="6095880"/>
            <a:ext cx="2428920" cy="762120"/>
          </a:xfrm>
          <a:prstGeom prst="rect">
            <a:avLst/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hat about nodes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ith no in/out links?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’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4"/>
              <p:cNvSpPr txBox="1"/>
              <p:nvPr/>
            </p:nvSpPr>
            <p:spPr>
              <a:xfrm>
                <a:off x="838080" y="1862280"/>
                <a:ext cx="5234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5" name="Rectangle 5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228600" y="563868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Oval 8"/>
          <p:cNvSpPr/>
          <p:nvPr/>
        </p:nvSpPr>
        <p:spPr>
          <a:xfrm>
            <a:off x="4429080" y="1771560"/>
            <a:ext cx="185760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6096600" y="16732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9" name="Group 10"/>
          <p:cNvGrpSpPr/>
          <p:nvPr/>
        </p:nvGrpSpPr>
        <p:grpSpPr>
          <a:xfrm>
            <a:off x="6520320" y="2786040"/>
            <a:ext cx="1544760" cy="1357200"/>
            <a:chOff x="6520320" y="2786040"/>
            <a:chExt cx="1544760" cy="1357200"/>
          </a:xfrm>
        </p:grpSpPr>
        <p:sp>
          <p:nvSpPr>
            <p:cNvPr id="680" name="AutoShape 11"/>
            <p:cNvSpPr/>
            <p:nvPr/>
          </p:nvSpPr>
          <p:spPr>
            <a:xfrm rot="18527400">
              <a:off x="6632640" y="353952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1" name="Text Box 12"/>
            <p:cNvSpPr/>
            <p:nvPr/>
          </p:nvSpPr>
          <p:spPr>
            <a:xfrm>
              <a:off x="6520320" y="278604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1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1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82" name="TextBox 12"/>
          <p:cNvSpPr/>
          <p:nvPr/>
        </p:nvSpPr>
        <p:spPr>
          <a:xfrm>
            <a:off x="962280" y="378612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Sans"/>
              </a:rPr>
              <a:t>r = [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it-IT" sz="3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1" lang="it-IT" sz="36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lang="it-IT" sz="36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1" lang="it-IT" sz="36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1" lang="it-IT" sz="3600" spc="-1" strike="noStrike">
                <a:solidFill>
                  <a:srgbClr val="000000"/>
                </a:solidFill>
                <a:latin typeface="Lucida Sans"/>
              </a:rPr>
              <a:t>] × r</a:t>
            </a:r>
            <a:endParaRPr b="1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Rectangle 14"/>
          <p:cNvSpPr/>
          <p:nvPr/>
        </p:nvSpPr>
        <p:spPr>
          <a:xfrm>
            <a:off x="4143240" y="1643040"/>
            <a:ext cx="20718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64200" y="4683600"/>
            <a:ext cx="4695840" cy="2058480"/>
            <a:chOff x="4264200" y="4683600"/>
            <a:chExt cx="4695840" cy="2058480"/>
          </a:xfrm>
        </p:grpSpPr>
        <p:sp>
          <p:nvSpPr>
            <p:cNvPr id="687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8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9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0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1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6171840" y="46836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1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915240" y="54921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1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4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5" name="Text Box 13"/>
            <p:cNvSpPr/>
            <p:nvPr/>
          </p:nvSpPr>
          <p:spPr>
            <a:xfrm>
              <a:off x="7392600" y="585828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1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6" name="Text Box 14"/>
            <p:cNvSpPr/>
            <p:nvPr/>
          </p:nvSpPr>
          <p:spPr>
            <a:xfrm>
              <a:off x="5342400" y="482688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</a:t>
              </a:r>
              <a:endParaRPr b="1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97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698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9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” each page has a long-term visit rate </a:t>
              </a:r>
              <a:endParaRPr b="1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’s score.</a:t>
              </a:r>
              <a:endParaRPr b="1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, build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2" name="TextBox 3"/>
          <p:cNvSpPr/>
          <p:nvPr/>
        </p:nvSpPr>
        <p:spPr>
          <a:xfrm>
            <a:off x="5526000" y="213048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 + (1-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lang="it-IT" sz="3200" spc="-1" strike="noStrike">
                <a:solidFill>
                  <a:srgbClr val="000000"/>
                </a:solidFill>
                <a:latin typeface="Lucida Sans"/>
              </a:rPr>
              <a:t>) e e</a:t>
            </a:r>
            <a:r>
              <a:rPr b="1" lang="it-IT" sz="32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04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8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9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2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7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(1) = h(2) + h(3) + h(4)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(1) = a(5) + a(6) + a(7)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’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’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37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is an eigenvector of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A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is an eigenvector of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8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4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1480" t="15046" r="3109" b="49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10813" t="11627" r="12369" b="53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1-01-07T07:31:08Z</dcterms:modified>
  <cp:revision>1289</cp:revision>
  <dc:subject/>
  <dc:title>Web Algorithmics</dc:title>
</cp:coreProperties>
</file>